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46B-C9E6-4AEF-B00A-19AE87C5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775-55FB-468A-9778-8622BDF1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A41-3D7C-4B9D-A9DA-179E87E1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023-6DC9-443C-A9F7-537A2726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E0A9-17A1-4D57-9BD3-A26EF87A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FE3-7E59-40A9-B16A-A710272A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73F-6B28-470E-A858-E2774751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4B9-8FE9-41B2-8384-336241E7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A53-AFD9-45AD-B725-0CB206D0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6D4-796E-451F-B859-CB10A14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2F8D-4623-4E81-AA8F-BC650D1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5B4-DE1D-458A-A07F-64E7E64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0C33-3913-4898-8D8B-5D2355715A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ftr" idx="4"/>
          </p:nvPr>
        </p:nvSpPr>
        <p:spPr>
          <a:xfrm>
            <a:off x="3132000" y="6095880"/>
            <a:ext cx="36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© 2008 Bowland Charitable T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0106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Fun with the sun</a:t>
            </a:r>
            <a:br>
              <a:rPr sz="4400"/>
            </a:br>
            <a:r>
              <a:rPr b="0" lang="en-GB" sz="4400" spc="-1" strike="noStrike">
                <a:solidFill>
                  <a:srgbClr val="221304"/>
                </a:solidFill>
                <a:latin typeface="Comic Sans MS"/>
              </a:rPr>
              <a:t>- a bit of theory and an origami sund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6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33640" y="2733840"/>
            <a:ext cx="3600360" cy="215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19840" y="2773440"/>
            <a:ext cx="3600360" cy="2073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7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33640" y="2873520"/>
            <a:ext cx="360036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19840" y="2808360"/>
            <a:ext cx="3600360" cy="2001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8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060640"/>
            <a:ext cx="69850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ou now need to make a support to hold your sundial at the correct angle for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right angl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riangular prism where one of the angles is equal to your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your angle of latitude is 5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° then the angles of the triangle will be 51°, 90° and 39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869000"/>
            <a:ext cx="1656000" cy="1224000"/>
          </a:xfrm>
          <a:prstGeom prst="rtTriangle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450828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24360" y="5733720"/>
            <a:ext cx="122400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492360" y="4508640"/>
            <a:ext cx="1656000" cy="1225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40000" y="4292640"/>
            <a:ext cx="2448000" cy="720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40000" y="4221000"/>
            <a:ext cx="3024000" cy="180036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708000" y="4292640"/>
            <a:ext cx="2592360" cy="1728720"/>
          </a:xfrm>
          <a:prstGeom prst="line">
            <a:avLst/>
          </a:prstGeom>
          <a:ln cap="sq" w="284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9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807080" cy="4521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03280" y="6308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767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85000" cy="4686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03280" y="60930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will fold a sundial like this from a sheet of pa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 bit of theory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38098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9760" y="1919160"/>
            <a:ext cx="3621240" cy="3816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9840" y="1992240"/>
            <a:ext cx="360036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33640" y="2065320"/>
            <a:ext cx="3600360" cy="348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19840" y="2066760"/>
            <a:ext cx="3600360" cy="3484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33640" y="1994040"/>
            <a:ext cx="3600360" cy="363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19840" y="2476440"/>
            <a:ext cx="3600360" cy="266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73240" y="175248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19840" y="2046240"/>
            <a:ext cx="3600360" cy="3525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6021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An origami sundial - 5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33640" y="2805120"/>
            <a:ext cx="3600360" cy="200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19840" y="2790720"/>
            <a:ext cx="3600360" cy="203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32000" y="5445000"/>
            <a:ext cx="6985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ick on the picture to see a video clip of the fol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doesn’t matter which side you fold over –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you can have the plain or coloured side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9:51:43Z</dcterms:created>
  <dc:creator>Peter Ransom</dc:creator>
  <dc:description/>
  <dc:language>en-US</dc:language>
  <cp:lastModifiedBy>Ransom</cp:lastModifiedBy>
  <dcterms:modified xsi:type="dcterms:W3CDTF">2008-05-13T21:30:03Z</dcterms:modified>
  <cp:revision>24</cp:revision>
  <dc:subject/>
  <dc:title>Fun with the sun</dc:title>
</cp:coreProperties>
</file>